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0F35-1AA2-4FAF-960B-82FB5C8651A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369-ACCB-477B-BB48-37324A8E93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861-4FEA-419E-9741-2D4AC31A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F05-C66E-4293-B2DF-92186971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D0C-BB5F-40DE-95CF-E18103F6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D00-74E5-4C5C-8500-9684789B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678-66C1-46A0-92BF-72E110E0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C60-8E8F-473B-AEFD-45A52584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37D-5E79-4D1D-AE53-A5BD8E9B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4FE-14A3-423A-83DB-94DFAA62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308-A823-4E2A-AAE7-7432599D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513-B3F0-492B-8FA4-7D060957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C11-FFAE-45AF-9AED-91647824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1F9-ED4E-42B4-BAF3-C48A0CDB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4561-9246-45C6-AE25-57A2EE48ACC7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Fire in the Forest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Basic Cellular Automaton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3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Oval 3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6"/>
          <p:cNvCxnSpPr>
            <a:stCxn id="166" idx="7"/>
            <a:endCxn id="167" idx="2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70" name="Straight Arrow Connector 8"/>
          <p:cNvCxnSpPr>
            <a:stCxn id="167" idx="6"/>
            <a:endCxn id="168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states: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ly all cells are 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ecomes burning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Oval 4"/>
          <p:cNvSpPr/>
          <p:nvPr/>
        </p:nvSpPr>
        <p:spPr>
          <a:xfrm>
            <a:off x="3635280" y="3213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658800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8"/>
          <p:cNvCxnSpPr>
            <a:stCxn id="175" idx="6"/>
            <a:endCxn id="176" idx="1"/>
          </p:cNvCxnSpPr>
          <p:nvPr/>
        </p:nvCxnSpPr>
        <p:spPr>
          <a:xfrm>
            <a:off x="5796000" y="3716280"/>
            <a:ext cx="110880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178" name="Oval 9"/>
          <p:cNvSpPr/>
          <p:nvPr/>
        </p:nvSpPr>
        <p:spPr>
          <a:xfrm>
            <a:off x="3059280" y="5661000"/>
            <a:ext cx="216036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539640" y="4437000"/>
            <a:ext cx="2160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traight Arrow Connector 11"/>
          <p:cNvCxnSpPr>
            <a:stCxn id="179" idx="7"/>
          </p:cNvCxnSpPr>
          <p:nvPr/>
        </p:nvCxnSpPr>
        <p:spPr>
          <a:xfrm flipV="1">
            <a:off x="2382480" y="3715920"/>
            <a:ext cx="1253160" cy="86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re in the Fores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x 5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mpty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est, burning, and bu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itial state: select randomly between empty/fo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Neumann neighborhood (4 neighb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st cell becomes burning if a neighbor is b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rning cell becomes burned after one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ndom initial burning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 for 90 time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04T13:08:40Z</dcterms:modified>
  <cp:revision>382</cp:revision>
  <dc:subject/>
  <dc:title>Low-carbon growth in Brazil?</dc:title>
</cp:coreProperties>
</file>